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AD6-995D-4458-945C-60096448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B87-C921-45E2-9A6B-CA692B0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0ED-D03F-4500-B860-E13913F4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F9D-F10B-4FBE-8FBE-E727AFE7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0E5-5B82-4B82-9CE7-A9638996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D7C5-08EF-49FF-882B-11D027D8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FD29-2B2D-4967-8C90-6A9648C9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1A85-C561-4A54-ABC1-FF0E580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2180-AC6B-4740-8B60-90A1EA3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9D82-BCEF-450B-94D2-26FC489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C2F-3927-45B9-B70F-C994FCA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739-1358-4385-8994-656A93A8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8014-E3F5-4F49-8A85-24DB677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A35C-51FA-4CC1-AC03-E6CEF575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B7C4-5DB7-46B9-94DA-1ABD65E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FF64-67A6-4731-9337-07CF2B1B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003-8EAB-47CE-853F-306E5B98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E0B-AC9A-4834-8BAE-FEFC2B79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1A9-2A90-4718-ABFD-348EC07A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E56-C0D6-44CD-86AF-EF57F858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87C-8755-4514-B4E7-406B865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ED6-6CEB-489C-9383-14003F18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138-88E9-45E5-A4A4-7FC2A00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C56-EA12-4F9A-A204-5802689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19B1-D2F0-495C-A721-A002977D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4ACE-9915-4940-A026-8E87BFC2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055-2093-4013-9E4C-9A29737B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iangle  Inequalit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9FF-D80A-45BB-ACFF-39D2779F5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85800" y="9144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ngle In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" y="175248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side is across from the smallest 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angle is across from the larges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 rot="17863200">
            <a:off x="5144400" y="4609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 = 4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 rot="1914000">
            <a:off x="6933600" y="4419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C = 3.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 rot="19851000">
            <a:off x="6629760" y="5562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C = 5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6629400" y="4647960"/>
            <a:ext cx="914400" cy="99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7162920" y="4724280"/>
            <a:ext cx="152280" cy="9144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5"/>
          <p:cNvGraphicFramePr/>
          <p:nvPr/>
        </p:nvGraphicFramePr>
        <p:xfrm>
          <a:off x="804960" y="2209680"/>
          <a:ext cx="707544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2209680"/>
                    <a:ext cx="70754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7"/>
          <p:cNvGraphicFramePr/>
          <p:nvPr/>
        </p:nvGraphicFramePr>
        <p:xfrm>
          <a:off x="973080" y="3352680"/>
          <a:ext cx="6892920" cy="5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3080" y="3352680"/>
                    <a:ext cx="68929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20"/>
          <p:cNvGrpSpPr/>
          <p:nvPr/>
        </p:nvGrpSpPr>
        <p:grpSpPr>
          <a:xfrm>
            <a:off x="5562720" y="3733920"/>
            <a:ext cx="3276360" cy="2658960"/>
            <a:chOff x="5562720" y="3733920"/>
            <a:chExt cx="3276360" cy="2658960"/>
          </a:xfrm>
        </p:grpSpPr>
        <p:sp>
          <p:nvSpPr>
            <p:cNvPr id="106" name="AutoShape 19"/>
            <p:cNvSpPr/>
            <p:nvPr/>
          </p:nvSpPr>
          <p:spPr>
            <a:xfrm>
              <a:off x="5562720" y="3733920"/>
              <a:ext cx="3276360" cy="26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997680" y="4286160"/>
              <a:ext cx="1406520" cy="75096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6022800" y="4286160"/>
              <a:ext cx="974880" cy="192240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6022440" y="5037120"/>
              <a:ext cx="2381400" cy="117144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4"/>
            <p:cNvSpPr/>
            <p:nvPr/>
          </p:nvSpPr>
          <p:spPr>
            <a:xfrm>
              <a:off x="7797600" y="491796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8083440" y="489276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6481440" y="564192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6767640" y="56167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6994440" y="447048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7282080" y="44449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0"/>
            <p:cNvSpPr/>
            <p:nvPr/>
          </p:nvSpPr>
          <p:spPr>
            <a:xfrm>
              <a:off x="6970680" y="4260960"/>
              <a:ext cx="65160" cy="64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824880" y="38656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8379000" y="5010120"/>
              <a:ext cx="64800" cy="666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8561520" y="49053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4"/>
            <p:cNvSpPr/>
            <p:nvPr/>
          </p:nvSpPr>
          <p:spPr>
            <a:xfrm>
              <a:off x="5997600" y="6181560"/>
              <a:ext cx="65160" cy="66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5757480" y="58802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AC17-6F20-4761-9E4F-C8A44C83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nequality –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xamples…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828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or the triangle, list the angles in order from least to greatest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6400800" y="2209680"/>
            <a:ext cx="2504880" cy="1990800"/>
            <a:chOff x="6400800" y="2209680"/>
            <a:chExt cx="2504880" cy="1990800"/>
          </a:xfrm>
        </p:grpSpPr>
        <p:sp>
          <p:nvSpPr>
            <p:cNvPr id="127" name="AutoShape 6"/>
            <p:cNvSpPr/>
            <p:nvPr/>
          </p:nvSpPr>
          <p:spPr>
            <a:xfrm>
              <a:off x="6400800" y="2209680"/>
              <a:ext cx="250488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>
              <a:off x="6676920" y="3943080"/>
              <a:ext cx="1914480" cy="9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 flipH="1">
              <a:off x="6676920" y="2543040"/>
              <a:ext cx="447840" cy="1409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7124760" y="2543040"/>
              <a:ext cx="1466640" cy="1400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8572320" y="39243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8658000" y="3848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>
              <a:off x="6657840" y="39337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6438960" y="3714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5"/>
            <p:cNvSpPr/>
            <p:nvPr/>
          </p:nvSpPr>
          <p:spPr>
            <a:xfrm>
              <a:off x="7105680" y="25239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6953040" y="2238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7"/>
          <p:cNvSpPr/>
          <p:nvPr/>
        </p:nvSpPr>
        <p:spPr>
          <a:xfrm rot="17605200">
            <a:off x="6249600" y="281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 rot="3139800">
            <a:off x="7542720" y="281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71629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0"/>
          <p:cNvGraphicFramePr/>
          <p:nvPr/>
        </p:nvGraphicFramePr>
        <p:xfrm>
          <a:off x="304920" y="4267080"/>
          <a:ext cx="80769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80769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EC2-292A-40D6-A436-2ADB93028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Inequality –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xamples…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228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or the triangle, list the sides in order from shortest to longest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5562720" y="2209680"/>
            <a:ext cx="3580920" cy="3038400"/>
            <a:chOff x="5562720" y="2209680"/>
            <a:chExt cx="3580920" cy="3038400"/>
          </a:xfrm>
        </p:grpSpPr>
        <p:sp>
          <p:nvSpPr>
            <p:cNvPr id="147" name="AutoShape 8"/>
            <p:cNvSpPr/>
            <p:nvPr/>
          </p:nvSpPr>
          <p:spPr>
            <a:xfrm>
              <a:off x="5562720" y="2209680"/>
              <a:ext cx="3580920" cy="30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6475680" y="4744080"/>
              <a:ext cx="1679400" cy="3816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"/>
            <p:cNvSpPr/>
            <p:nvPr/>
          </p:nvSpPr>
          <p:spPr>
            <a:xfrm flipH="1">
              <a:off x="6476040" y="3012480"/>
              <a:ext cx="876960" cy="177012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7353360" y="3012480"/>
              <a:ext cx="802080" cy="173160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7485120" y="243360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8x-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825160" y="3886920"/>
              <a:ext cx="49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7x+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8230320" y="4185360"/>
              <a:ext cx="49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7x+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8117280" y="4707720"/>
              <a:ext cx="94680" cy="92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8285760" y="45586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6439680" y="4744080"/>
              <a:ext cx="92520" cy="94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09840" y="43167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7317000" y="2973960"/>
              <a:ext cx="92520" cy="92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7017480" y="241560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21"/>
          <p:cNvSpPr/>
          <p:nvPr/>
        </p:nvSpPr>
        <p:spPr>
          <a:xfrm>
            <a:off x="304920" y="2286000"/>
            <a:ext cx="4724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x + 8) ° + (7x + 6 ) ° + (8x – 10 ) ° = 18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2 x + 4 = 18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x =  1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048120" y="3124080"/>
            <a:ext cx="2514600" cy="13262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lt;C = 7x + 8 = 6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lt;A = 7x + 6 = 62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lt;B = 8x – 10 = 5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754380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6553080" y="4419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2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708660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4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6"/>
          <p:cNvGraphicFramePr/>
          <p:nvPr/>
        </p:nvGraphicFramePr>
        <p:xfrm>
          <a:off x="609480" y="4800600"/>
          <a:ext cx="672156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672156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0C7F-62AB-47A5-9F20-9AD05856B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057400" y="38098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pendicular segment from a point to a line is the shortest segment from the point to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2860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orollary 1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133720" y="5197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pendicular segment from a point to a plane is the shortest segment from the point to the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0492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orollary 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981080" y="205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angle of a triangle is larger than a second angle, then the side opposite the first angle is larger than the side opposite the second ang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049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57200" y="6094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e Theorem &amp; Coroll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7DC-7C86-46B6-A939-6C63881E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ngle Inequality Theorem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he lengths of any two sides of a triangle is greater than the length of the third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590560" cy="202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1523880" y="2666880"/>
            <a:ext cx="2819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b &gt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c &g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+ c 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2860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676520" y="42670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if it is possible to draw a triangle with side measures 12, 11, and 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952880" y="4724280"/>
            <a:ext cx="3124440" cy="1572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+ 11 &gt; 1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+ 17 &gt;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+ 17 &gt; 1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228600" y="5334120"/>
            <a:ext cx="4572000" cy="459720"/>
          </a:xfrm>
          <a:prstGeom prst="rect">
            <a:avLst/>
          </a:prstGeom>
          <a:solidFill>
            <a:srgbClr val="d6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a triangle can be dr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: Triangle Inequa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D5DB-A6CB-4877-ACF6-D269030F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ing the range of the third si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third side cannot be larger than the other two added together, we fin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by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d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wo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" y="2590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third side and the smallest side cannot be larger than the other side, we fin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by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btr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wo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860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00200" y="36576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triangle with sides of length 3 and 8, find the range of possible values for the third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28600" y="4419720"/>
            <a:ext cx="45720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ximum value (if x is the largest side of the triangl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+ 8 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343400" y="4419720"/>
            <a:ext cx="457200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nimum value (if x is not that largest side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∆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8 – 3 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&gt;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09680" y="5715000"/>
            <a:ext cx="4953240" cy="45972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nge of the third side is 5 &lt; x &lt;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343400" y="4419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8:13:34Z</dcterms:created>
  <dc:creator>HCPS</dc:creator>
  <dc:description/>
  <dc:language>en-US</dc:language>
  <cp:lastModifiedBy>BeasoA</cp:lastModifiedBy>
  <dcterms:modified xsi:type="dcterms:W3CDTF">2010-10-20T13:46:08Z</dcterms:modified>
  <cp:revision>49</cp:revision>
  <dc:subject/>
  <dc:title>Triangle Inequality</dc:title>
</cp:coreProperties>
</file>